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C11E-5DC2-481D-92D6-07BDA9D4E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r novamento o capítulo 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r novamento o capítulo 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r novamento o capítulo 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r novamento o capítulo 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r novamento o capítulo 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r novamento o capítulo 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r novamento o capítulo 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r novamento o capítulo 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r novamento o capítulo 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r novamento o capítulo 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r novamento o capítulo 1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F723-DA18-45E3-AD43-7C2C2FED7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7808-8122-43DC-A218-A021739D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2C68-432B-4642-B25C-74A68E8C4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883F-E081-4BDA-ADFC-0001FAD71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ABAC-5F3B-435E-83E0-D96C5B8F1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8380-7E6F-490A-8963-4E7DF084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3AE5-FAFD-4EC5-A69B-F5E14FF0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514B-052D-4099-BAAB-9D20BFF7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57BE-C98C-4226-93C2-A82465B3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F243-C76F-4ED1-9062-D9A9B95A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FD65-55A1-440A-AAAA-833A7AA0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A4FF-5A50-427F-8841-C5C021F4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48FC-9D43-45A4-894B-4E144DC1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97F4-88D8-4F30-A71F-F397B7F3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FCEA-9FCE-469A-93F7-53934F2A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B4F3-18BD-43A1-85B5-A7E96211F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AEFC-346B-42E0-8642-7519D5A7E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826F-3248-420E-BA09-2E3A5B6B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8F5D-3D90-4030-A5A5-EC1F595D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C535-B4B2-4AA8-9985-3F78FF32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B82C-7C9A-46D8-A68E-6AC2136A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EC93-AEC1-4C96-812E-840CBE85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5301-30B4-49A1-9F10-C83641D4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6379-CEA5-4C0F-98FE-E5324815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2788-8470-4A52-8F15-9063E646F029}" type="datetime"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8A58-D607-4088-BD41-08D14EBDCE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D002-4B87-48E2-A994-6EE5312132A7}" type="datetime">
              <a:rPr b="0" lang="pt-BR" sz="1200" spc="-1" strike="noStrike">
                <a:solidFill>
                  <a:srgbClr val="000000"/>
                </a:solidFill>
                <a:latin typeface="Garamond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F6F0-9F89-42B3-8A77-2860DE1D56C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bccf@cin.ufpe.br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mailto:bccf@cin.ufpe.br" TargetMode="External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06633"/>
                </a:solidFill>
                <a:latin typeface="Garamond"/>
              </a:rPr>
              <a:t>Gerenciamento de Múltiplos Projetos de Softwar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runo Freitas, P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bccf@cin.ufpe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entro de Informá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niversidade Federal de Pernambu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Agend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Introduçã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Gestão de Portfólio x Gestão de Multiproje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Tipologia de Ambientes Multiproje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Fábricas de 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Corrente Crít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Considerações Fina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Referênc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3F2B-2A9D-4183-A1BC-795B40D58E9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3DF8EB-2626-4392-AA5F-1197498F6C8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6633"/>
                </a:solidFill>
                <a:latin typeface="Garamond"/>
              </a:rPr>
              <a:t>Gestão de Portfólio x Gestão de Multiprojeto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Gestão de Portfól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tividade de atribuir critérios para selecionar e priorizar projetos dentro de um conjunto de propostas que estejam alinhados com as estratégias organizacion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Gestão de Multiproje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gerência de multiprojetos preocupa-se em como distribuir e controlar os recursos para os projetos, uma vez que estes tenham sido selecion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9990-592A-42F9-AF88-B733A0182FE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938633-F98E-43C3-A779-E90E6054404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6633"/>
                </a:solidFill>
                <a:latin typeface="Garamond"/>
              </a:rPr>
              <a:t>Gestão de Portfólio x Gestão de Multiprojetos </a:t>
            </a:r>
            <a:r>
              <a:rPr b="0" lang="pt-BR" sz="3000" spc="-1" strike="noStrike">
                <a:solidFill>
                  <a:srgbClr val="006633"/>
                </a:solidFill>
                <a:latin typeface="Garamond"/>
              </a:rPr>
              <a:t>(cont.)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7939080" cy="2322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437880" y="4581360"/>
            <a:ext cx="210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daptada de [Dye 200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D908-6E16-4892-8EEC-4F827FDD084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FC0F21-3715-4DE3-B9D3-DED9295B990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Agend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Introduçã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Gestão de Portfólio x Gestão de Multiproje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Tipologia de Ambientes Multiproje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Fábricas de 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Corrente Crít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Considerações Fina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Referênc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F30C-61DF-40E8-ADD3-4CFAF1A77E6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5A9509-492C-4DA5-AD2B-55ACD495D2C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6633"/>
                </a:solidFill>
                <a:latin typeface="Garamond"/>
              </a:rPr>
              <a:t>Tipologia de Ambientes Multiprojetos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mbientes Multiprojetos Converge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indústrias de manufatura de carros e aerona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979640" y="2541600"/>
            <a:ext cx="5335560" cy="3479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419640" y="5932440"/>
            <a:ext cx="29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daptada de [Danilovic 2001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F69E-5398-4B47-A2F4-93B38F6040F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77D683-6BF6-4E80-9F24-33AAC60898C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6633"/>
                </a:solidFill>
                <a:latin typeface="Garamond"/>
              </a:rPr>
              <a:t>Tipologia de Ambientes Multiprojetos </a:t>
            </a:r>
            <a:r>
              <a:rPr b="0" lang="pt-BR" sz="3000" spc="-1" strike="noStrike">
                <a:solidFill>
                  <a:srgbClr val="006633"/>
                </a:solidFill>
                <a:latin typeface="Garamond"/>
              </a:rPr>
              <a:t>(cont.)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mbientes Multiprojetos Diverge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ústria automobilística, na qual diferentes modelos compartilham a mesma plataforma, motor ou chass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40000" y="2879640"/>
            <a:ext cx="4408560" cy="2997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419640" y="5932440"/>
            <a:ext cx="29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daptada de [Danilovic 2001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EE9C-93E3-41C7-AF4C-8D5C7934198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1332D8-949D-466B-8E3B-A49791589CB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6633"/>
                </a:solidFill>
                <a:latin typeface="Garamond"/>
              </a:rPr>
              <a:t>Tipologia de Ambientes Multiprojetos </a:t>
            </a:r>
            <a:r>
              <a:rPr b="0" lang="pt-BR" sz="3000" spc="-1" strike="noStrike">
                <a:solidFill>
                  <a:srgbClr val="006633"/>
                </a:solidFill>
                <a:latin typeface="Garamond"/>
              </a:rPr>
              <a:t>(cont.)</a:t>
            </a:r>
            <a:r>
              <a:rPr b="0" lang="pt-BR" sz="38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mbientes Multiprojetos Parale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411280" y="2637000"/>
            <a:ext cx="4472280" cy="2946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419640" y="5589720"/>
            <a:ext cx="29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daptada de [Danilovic 2001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15CE-DF7D-43E4-9A41-5AC53EDD98F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00E704-7C5E-4A82-BA70-8DF0EBF6C05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Agend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Introduçã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Gestão de Portfólio x Gestão de Multiproje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Tipologia de Ambientes Multiproje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Fábricas de 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Corrente Crít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Considerações Fina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Referênc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5BA8-4774-4B41-8C36-DDE5C76DEF1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4DC1C4-2975-4945-81CA-1557850A92D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4360" y="2924280"/>
            <a:ext cx="8208720" cy="2592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1280" y="2852640"/>
            <a:ext cx="8137440" cy="2521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6633"/>
                </a:solidFill>
                <a:latin typeface="Garamond"/>
              </a:rPr>
              <a:t>Fábricas de Software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Segundo [Fernandes 2004], uma fábrica de software pode ser definida com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Um processo </a:t>
            </a:r>
            <a:r>
              <a:rPr b="0" i="1" lang="pt-BR" sz="2200" spc="-1" strike="noStrike">
                <a:solidFill>
                  <a:srgbClr val="0000ff"/>
                </a:solidFill>
                <a:latin typeface="Arial"/>
              </a:rPr>
              <a:t>estruturado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200" spc="-1" strike="noStrike">
                <a:solidFill>
                  <a:srgbClr val="0000ff"/>
                </a:solidFill>
                <a:latin typeface="Arial"/>
              </a:rPr>
              <a:t>controlado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BR" sz="2200" spc="-1" strike="noStrike">
                <a:solidFill>
                  <a:srgbClr val="0000ff"/>
                </a:solidFill>
                <a:latin typeface="Arial"/>
              </a:rPr>
              <a:t>melhorado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 de forma contínua, considerando abordagens de engenharia industrial, orientado para o </a:t>
            </a:r>
            <a:r>
              <a:rPr b="0" i="1" lang="pt-BR" sz="2200" spc="-1" strike="noStrike">
                <a:solidFill>
                  <a:srgbClr val="0000ff"/>
                </a:solidFill>
                <a:latin typeface="Arial"/>
              </a:rPr>
              <a:t>atendimento a múltiplas demandas de natureza e escopo distintas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, visando à geração de </a:t>
            </a:r>
            <a:r>
              <a:rPr b="0" i="1" lang="pt-BR" sz="2200" spc="-1" strike="noStrike">
                <a:solidFill>
                  <a:srgbClr val="0000ff"/>
                </a:solidFill>
                <a:latin typeface="Arial"/>
              </a:rPr>
              <a:t>produtos de software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, conforme os requisitos documentados dos usuários e/ou clientes, da forma mais </a:t>
            </a:r>
            <a:r>
              <a:rPr b="0" i="1" lang="pt-BR" sz="2200" spc="-1" strike="noStrike">
                <a:solidFill>
                  <a:srgbClr val="0000ff"/>
                </a:solidFill>
                <a:latin typeface="Arial"/>
              </a:rPr>
              <a:t>produtiva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BR" sz="2200" spc="-1" strike="noStrike">
                <a:solidFill>
                  <a:srgbClr val="0000ff"/>
                </a:solidFill>
                <a:latin typeface="Arial"/>
              </a:rPr>
              <a:t>econômica possível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C456-B63E-4FC4-A5AD-96AAFAB2BD0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5352EE-45B8-41C2-A9A1-D473BFD3B93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6633"/>
                </a:solidFill>
                <a:latin typeface="Garamond"/>
              </a:rPr>
              <a:t>Fábricas de Software </a:t>
            </a:r>
            <a:r>
              <a:rPr b="0" lang="pt-BR" sz="3000" spc="-1" strike="noStrike">
                <a:solidFill>
                  <a:srgbClr val="006633"/>
                </a:solidFill>
                <a:latin typeface="Garamond"/>
              </a:rPr>
              <a:t>(cont.)</a:t>
            </a:r>
            <a:br>
              <a:rPr sz="3800"/>
            </a:b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ntre os vários atributos básicos destacados por [Fernandes 2004] para uma fábrica de software, podemos destac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fábrica deve ter rigoroso controle dos recursos em termos de sua alocação, disponibilidade, necessidade futura e produtividade (esta deve ser mensurad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fábrica deve ter o controle do status das múltiplas demandas em seu processo e permitir o rastreamento dessas demand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fábrica deve ter o absoluto controle do andamento da execução de cada deman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produtos de software devem ser construídos de acordo com métodos, técnicas e ferramentas padroniz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EBE2-6AA7-40DA-9F14-A346B2FBC18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F7CE2D-B688-40BD-AAC7-F956BAE0B48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Agend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Gestão de Portfólio x Gestão de Multiproje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Tipologia de Ambientes Multiproje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Fábricas de 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orrente Crít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onsiderações Fina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Referênc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C145-AB63-482A-82AD-800C8BA1529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F7685E-77AA-4F1B-8E9E-F0DDBA3DD3B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6633"/>
                </a:solidFill>
                <a:latin typeface="Garamond"/>
              </a:rPr>
              <a:t>Fábricas de Software </a:t>
            </a:r>
            <a:r>
              <a:rPr b="0" lang="pt-BR" sz="3000" spc="-1" strike="noStrike">
                <a:solidFill>
                  <a:srgbClr val="006633"/>
                </a:solidFill>
                <a:latin typeface="Garamond"/>
              </a:rPr>
              <a:t>(cont.)</a:t>
            </a:r>
            <a:r>
              <a:rPr b="0" lang="pt-BR" sz="38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mo o recurso humano é o principal insumo para a produção, é necessário que um planejamento da operação de software possibilit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hecer a atual alocação dos recur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hecer a futura alocação dos recur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hecer a futura necessidade de recur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hecer a atual e futura disponibilização de recur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hecer as habilidades atuais dos recur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hecer as habilidades futuras requeri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DA61-C22E-464F-954C-800A80F25D3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E8AD22-BAD0-4C66-BBDE-6EA19ADD987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6633"/>
                </a:solidFill>
                <a:latin typeface="Garamond"/>
              </a:rPr>
              <a:t>Fábricas de Software </a:t>
            </a:r>
            <a:r>
              <a:rPr b="0" lang="pt-BR" sz="3000" spc="-1" strike="noStrike">
                <a:solidFill>
                  <a:srgbClr val="006633"/>
                </a:solidFill>
                <a:latin typeface="Garamond"/>
              </a:rPr>
              <a:t>(cont.)</a:t>
            </a:r>
            <a:br>
              <a:rPr sz="3800"/>
            </a:b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ramework do processo de software em uma fábrica de software [Fernandes 2004]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835280" y="2565360"/>
            <a:ext cx="5472000" cy="352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835A-CB2E-497B-B4B6-15873021C63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24FE25-5BAA-481B-BB7B-9DAF18FCBC5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Agend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Introduçã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Gestão de Portfólio x Gestão de Multiproje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Tipologia de Ambientes Multiproje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Fábricas de 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orrente Crít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Considerações Fina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Referênc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AE68-7366-44C7-A8ED-9D14C9CF75D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0857F4-A5D9-49E0-9979-8FA90D1D0B3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Corrente Crític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Um projeto é composto por várias ativ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Geralmente, o tempo necessário para cada atividade é estimado individualm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o tempo de cada atividade acrescenta-se uma margem de seguranç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sa margem de segurança, às vezes, já embute um percentual de corte pela alta ge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No final, temos um tempo de conclusão do projeto muito maior do que o necessá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ainda assim atrasamo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B841-E65F-4FFF-A7D3-A3E51AA1243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EE883A-9A5B-4AB5-AF52-646B6456C41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Corrente Crítica </a:t>
            </a:r>
            <a:r>
              <a:rPr b="0" lang="pt-BR" sz="3100" spc="-1" strike="noStrike">
                <a:solidFill>
                  <a:srgbClr val="006633"/>
                </a:solidFill>
                <a:latin typeface="Garamond"/>
              </a:rPr>
              <a:t>(cont.)</a:t>
            </a: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E por que atrasamo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Lei de Parkin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4381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 pessoas gastam todo o tempo que elas têm, mesmo que seja com coisas superfici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Síndrome do Estuda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4381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ixar tudo para a última ho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ultitaref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4381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Várias coisas para fazer ao mesmo tempo sem uma priorização entre as ativi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5659-189B-4067-8153-4366B7650F4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70DD05-420B-4EC2-ACE4-D6E0D45E8D5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Corrente Crítica </a:t>
            </a:r>
            <a:r>
              <a:rPr b="0" lang="pt-BR" sz="3100" spc="-1" strike="noStrike">
                <a:solidFill>
                  <a:srgbClr val="006633"/>
                </a:solidFill>
                <a:latin typeface="Garamond"/>
              </a:rPr>
              <a:t>(cont.)</a:t>
            </a: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corrente crítica é sustentada pela utilização de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gerenciamento dos buffers se assemelha a um semáfor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050920" y="4149720"/>
            <a:ext cx="4560840" cy="792000"/>
            <a:chOff x="2050920" y="4149720"/>
            <a:chExt cx="4560840" cy="792000"/>
          </a:xfrm>
        </p:grpSpPr>
        <p:sp>
          <p:nvSpPr>
            <p:cNvPr id="157" name=""/>
            <p:cNvSpPr/>
            <p:nvPr/>
          </p:nvSpPr>
          <p:spPr>
            <a:xfrm>
              <a:off x="2195640" y="4149720"/>
              <a:ext cx="1439640" cy="7920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50920" y="43668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635280" y="4149720"/>
              <a:ext cx="1440000" cy="792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48160" y="4222440"/>
              <a:ext cx="165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Observar e Planej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76720" y="4149720"/>
              <a:ext cx="1440000" cy="792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954680" y="4222440"/>
              <a:ext cx="165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Agir com Urgênc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788F-C964-45EA-87D2-7363D7070FB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02D6F4-3287-44A7-853A-C2F972697F5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Corrente Crítica </a:t>
            </a:r>
            <a:r>
              <a:rPr b="0" lang="pt-BR" sz="3100" spc="-1" strike="noStrike">
                <a:solidFill>
                  <a:srgbClr val="006633"/>
                </a:solidFill>
                <a:latin typeface="Garamond"/>
              </a:rPr>
              <a:t>(cont.)</a:t>
            </a: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Buffer de Proje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Reduzindo o tempo de cada etapa, liberamos tempo suficiente para criarmos um </a:t>
            </a:r>
            <a:r>
              <a:rPr b="0" lang="pt-BR" sz="2600" spc="-1" strike="noStrike">
                <a:solidFill>
                  <a:srgbClr val="ff3300"/>
                </a:solidFill>
                <a:latin typeface="Arial"/>
              </a:rPr>
              <a:t>buffer de proje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58920" y="3645000"/>
            <a:ext cx="1584360" cy="368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tapa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16360" y="3645000"/>
            <a:ext cx="115092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tapa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40360" y="3645000"/>
            <a:ext cx="2232000" cy="368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tapa #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3640" y="3645000"/>
            <a:ext cx="1224000" cy="368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tapa #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58920" y="4637160"/>
            <a:ext cx="792000" cy="368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24000" y="4637160"/>
            <a:ext cx="5763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1640" y="4637160"/>
            <a:ext cx="1224000" cy="368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67280" y="4637160"/>
            <a:ext cx="576000" cy="368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716360" y="4653000"/>
            <a:ext cx="2951280" cy="288720"/>
          </a:xfrm>
          <a:custGeom>
            <a:avLst/>
            <a:gdLst>
              <a:gd name="textAreaLeft" fmla="*/ 649080 w 2951280"/>
              <a:gd name="textAreaRight" fmla="*/ 2302200 w 2951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87680" y="4637160"/>
            <a:ext cx="36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uffer de Proje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B511-759A-46EE-847E-53E07C414D0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7DF0C9-72E5-4A99-A79A-19F5709E817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Corrente Crítica </a:t>
            </a:r>
            <a:r>
              <a:rPr b="0" lang="pt-BR" sz="3100" spc="-1" strike="noStrike">
                <a:solidFill>
                  <a:srgbClr val="006633"/>
                </a:solidFill>
                <a:latin typeface="Garamond"/>
              </a:rPr>
              <a:t>(cont.)</a:t>
            </a: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58920" y="3567240"/>
            <a:ext cx="792000" cy="368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24000" y="3567240"/>
            <a:ext cx="5763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71640" y="3567240"/>
            <a:ext cx="1224000" cy="3682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67280" y="3567240"/>
            <a:ext cx="576000" cy="3682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16360" y="3583080"/>
            <a:ext cx="2951280" cy="288720"/>
          </a:xfrm>
          <a:custGeom>
            <a:avLst/>
            <a:gdLst>
              <a:gd name="textAreaLeft" fmla="*/ 649080 w 2951280"/>
              <a:gd name="textAreaRight" fmla="*/ 2302200 w 2951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387680" y="3567240"/>
            <a:ext cx="36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uffer de Proje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76360" y="2774880"/>
            <a:ext cx="576360" cy="3373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#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9840" y="2774880"/>
            <a:ext cx="574920" cy="362160"/>
          </a:xfrm>
          <a:custGeom>
            <a:avLst/>
            <a:gdLst>
              <a:gd name="textAreaLeft" fmla="*/ 126360 w 574920"/>
              <a:gd name="textAreaRight" fmla="*/ 448560 w 574920"/>
              <a:gd name="textAreaTop" fmla="*/ 79560 h 362160"/>
              <a:gd name="textAreaBottom" fmla="*/ 282600 h 3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39960" y="27748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00360" y="4357800"/>
            <a:ext cx="57636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#B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63840" y="4357800"/>
            <a:ext cx="574920" cy="361800"/>
          </a:xfrm>
          <a:custGeom>
            <a:avLst/>
            <a:gdLst>
              <a:gd name="textAreaLeft" fmla="*/ 126360 w 574920"/>
              <a:gd name="textAreaRight" fmla="*/ 448560 w 574920"/>
              <a:gd name="textAreaTop" fmla="*/ 79560 h 361800"/>
              <a:gd name="textAreaBottom" fmla="*/ 282240 h 36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019400" y="3998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50920" y="4359240"/>
            <a:ext cx="576360" cy="3373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#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87640" y="4719600"/>
            <a:ext cx="14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uffer de Convergê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835280" y="2193840"/>
            <a:ext cx="143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uffer de Convergê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CDEE-8EB8-4D77-A5CB-322DAEAD0F4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EE2AE8-E6B6-4A47-82AF-1D35547FAA1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Corrente Crítica </a:t>
            </a:r>
            <a:r>
              <a:rPr b="0" lang="pt-BR" sz="3100" spc="-1" strike="noStrike">
                <a:solidFill>
                  <a:srgbClr val="006633"/>
                </a:solidFill>
                <a:latin typeface="Garamond"/>
              </a:rPr>
              <a:t>(cont.)</a:t>
            </a: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aminho Crít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84360" y="2519280"/>
            <a:ext cx="2016000" cy="1152720"/>
            <a:chOff x="684360" y="2519280"/>
            <a:chExt cx="2016000" cy="1152720"/>
          </a:xfrm>
        </p:grpSpPr>
        <p:sp>
          <p:nvSpPr>
            <p:cNvPr id="195" name=""/>
            <p:cNvSpPr/>
            <p:nvPr/>
          </p:nvSpPr>
          <p:spPr>
            <a:xfrm>
              <a:off x="723960" y="2519280"/>
              <a:ext cx="1944720" cy="1152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84360" y="2694240"/>
              <a:ext cx="2016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Construir o préd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90 d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4213080" y="2494080"/>
            <a:ext cx="2016000" cy="1152360"/>
            <a:chOff x="4213080" y="2494080"/>
            <a:chExt cx="2016000" cy="1152360"/>
          </a:xfrm>
        </p:grpSpPr>
        <p:sp>
          <p:nvSpPr>
            <p:cNvPr id="198" name=""/>
            <p:cNvSpPr/>
            <p:nvPr/>
          </p:nvSpPr>
          <p:spPr>
            <a:xfrm>
              <a:off x="4252680" y="2494080"/>
              <a:ext cx="1944720" cy="1152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13080" y="2668680"/>
              <a:ext cx="2016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Tornar o prédio fun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30 d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00" name=""/>
          <p:cNvCxnSpPr>
            <a:stCxn id="196" idx="3"/>
            <a:endCxn id="199" idx="1"/>
          </p:cNvCxnSpPr>
          <p:nvPr/>
        </p:nvCxnSpPr>
        <p:spPr>
          <a:xfrm>
            <a:off x="2700360" y="3084120"/>
            <a:ext cx="1513440" cy="4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1" name=""/>
          <p:cNvGrpSpPr/>
          <p:nvPr/>
        </p:nvGrpSpPr>
        <p:grpSpPr>
          <a:xfrm>
            <a:off x="684360" y="3913200"/>
            <a:ext cx="2016000" cy="1152360"/>
            <a:chOff x="684360" y="3913200"/>
            <a:chExt cx="2016000" cy="1152360"/>
          </a:xfrm>
        </p:grpSpPr>
        <p:sp>
          <p:nvSpPr>
            <p:cNvPr id="202" name=""/>
            <p:cNvSpPr/>
            <p:nvPr/>
          </p:nvSpPr>
          <p:spPr>
            <a:xfrm>
              <a:off x="723960" y="3913200"/>
              <a:ext cx="1944720" cy="1152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4360" y="3976200"/>
              <a:ext cx="20160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Escolher Forneced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15 d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213080" y="3887640"/>
            <a:ext cx="2016000" cy="1152720"/>
            <a:chOff x="4213080" y="3887640"/>
            <a:chExt cx="2016000" cy="1152720"/>
          </a:xfrm>
        </p:grpSpPr>
        <p:sp>
          <p:nvSpPr>
            <p:cNvPr id="205" name=""/>
            <p:cNvSpPr/>
            <p:nvPr/>
          </p:nvSpPr>
          <p:spPr>
            <a:xfrm>
              <a:off x="4252680" y="3887640"/>
              <a:ext cx="1944720" cy="11527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13080" y="4062600"/>
              <a:ext cx="2016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Construir as Máquin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90 d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07" name=""/>
          <p:cNvCxnSpPr>
            <a:stCxn id="203" idx="3"/>
            <a:endCxn id="206" idx="1"/>
          </p:cNvCxnSpPr>
          <p:nvPr/>
        </p:nvCxnSpPr>
        <p:spPr>
          <a:xfrm>
            <a:off x="2700360" y="4503240"/>
            <a:ext cx="1513440" cy="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8" name=""/>
          <p:cNvGrpSpPr/>
          <p:nvPr/>
        </p:nvGrpSpPr>
        <p:grpSpPr>
          <a:xfrm>
            <a:off x="6732720" y="3238560"/>
            <a:ext cx="2016000" cy="1191240"/>
            <a:chOff x="6732720" y="3238560"/>
            <a:chExt cx="2016000" cy="1191240"/>
          </a:xfrm>
        </p:grpSpPr>
        <p:sp>
          <p:nvSpPr>
            <p:cNvPr id="209" name=""/>
            <p:cNvSpPr/>
            <p:nvPr/>
          </p:nvSpPr>
          <p:spPr>
            <a:xfrm>
              <a:off x="6772320" y="3276720"/>
              <a:ext cx="1944360" cy="1152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32720" y="3238560"/>
              <a:ext cx="201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Instalar as Máquinas no Préd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30 d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11" name=""/>
          <p:cNvCxnSpPr>
            <a:stCxn id="199" idx="3"/>
            <a:endCxn id="210" idx="1"/>
          </p:cNvCxnSpPr>
          <p:nvPr/>
        </p:nvCxnSpPr>
        <p:spPr>
          <a:xfrm>
            <a:off x="6229440" y="3127320"/>
            <a:ext cx="504000" cy="70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"/>
          <p:cNvCxnSpPr>
            <a:stCxn id="206" idx="3"/>
            <a:endCxn id="210" idx="1"/>
          </p:cNvCxnSpPr>
          <p:nvPr/>
        </p:nvCxnSpPr>
        <p:spPr>
          <a:xfrm flipV="1">
            <a:off x="6229440" y="3833640"/>
            <a:ext cx="504000" cy="68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"/>
          <p:cNvSpPr/>
          <p:nvPr/>
        </p:nvSpPr>
        <p:spPr>
          <a:xfrm>
            <a:off x="324000" y="522936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9900"/>
                </a:solidFill>
                <a:latin typeface="Arial"/>
              </a:rPr>
              <a:t>O caminho crítico é a maior cadeia de etapas dependentes em termos de tem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4360" y="2349360"/>
            <a:ext cx="611964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04000" y="3070080"/>
            <a:ext cx="19447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6804000" y="234936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020000" y="24289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3300"/>
                </a:solidFill>
                <a:latin typeface="Arial"/>
              </a:rPr>
              <a:t>Caminho Crí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FDAA-AD87-4944-BC41-F768B8C5C84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7048F5-BDCA-40EB-BA15-8527FEC6051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Corrente Crítica </a:t>
            </a:r>
            <a:r>
              <a:rPr b="0" lang="pt-BR" sz="3100" spc="-1" strike="noStrike">
                <a:solidFill>
                  <a:srgbClr val="006633"/>
                </a:solidFill>
                <a:latin typeface="Garamond"/>
              </a:rPr>
              <a:t>(cont.)</a:t>
            </a: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gora vamos supor outra situaçã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5280" y="3711600"/>
            <a:ext cx="792000" cy="376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546200" y="3711600"/>
            <a:ext cx="5763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3711600"/>
            <a:ext cx="1224000" cy="3762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95640" y="3711600"/>
            <a:ext cx="576360" cy="3762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869080" y="3727440"/>
            <a:ext cx="2950920" cy="289080"/>
          </a:xfrm>
          <a:custGeom>
            <a:avLst/>
            <a:gdLst>
              <a:gd name="textAreaLeft" fmla="*/ 648720 w 2950920"/>
              <a:gd name="textAreaRight" fmla="*/ 2302200 w 2950920"/>
              <a:gd name="textAreaTop" fmla="*/ 63360 h 289080"/>
              <a:gd name="textAreaBottom" fmla="*/ 2257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08720" y="371160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uffer de Proje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476360" y="2349360"/>
            <a:ext cx="576360" cy="3463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708360" y="2349360"/>
            <a:ext cx="574560" cy="362160"/>
          </a:xfrm>
          <a:custGeom>
            <a:avLst/>
            <a:gdLst>
              <a:gd name="textAreaLeft" fmla="*/ 126360 w 574560"/>
              <a:gd name="textAreaRight" fmla="*/ 448200 w 574560"/>
              <a:gd name="textAreaTop" fmla="*/ 79560 h 362160"/>
              <a:gd name="textAreaBottom" fmla="*/ 282600 h 3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63800" y="235584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627280" y="2349360"/>
            <a:ext cx="576360" cy="3373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"/>
          <p:cNvCxnSpPr>
            <a:stCxn id="226" idx="3"/>
            <a:endCxn id="229" idx="1"/>
          </p:cNvCxnSpPr>
          <p:nvPr/>
        </p:nvCxnSpPr>
        <p:spPr>
          <a:xfrm>
            <a:off x="2052720" y="2522160"/>
            <a:ext cx="57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3"/>
            <a:endCxn id="227" idx="2"/>
          </p:cNvCxnSpPr>
          <p:nvPr/>
        </p:nvCxnSpPr>
        <p:spPr>
          <a:xfrm>
            <a:off x="3203280" y="2522520"/>
            <a:ext cx="57708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2" name=""/>
          <p:cNvSpPr/>
          <p:nvPr/>
        </p:nvSpPr>
        <p:spPr>
          <a:xfrm>
            <a:off x="1476360" y="2995560"/>
            <a:ext cx="576360" cy="345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708360" y="2995560"/>
            <a:ext cx="574560" cy="362160"/>
          </a:xfrm>
          <a:custGeom>
            <a:avLst/>
            <a:gdLst>
              <a:gd name="textAreaLeft" fmla="*/ 126360 w 574560"/>
              <a:gd name="textAreaRight" fmla="*/ 448200 w 574560"/>
              <a:gd name="textAreaTop" fmla="*/ 79560 h 362160"/>
              <a:gd name="textAreaBottom" fmla="*/ 282600 h 3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2995560"/>
            <a:ext cx="57636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2" idx="3"/>
            <a:endCxn id="234" idx="1"/>
          </p:cNvCxnSpPr>
          <p:nvPr/>
        </p:nvCxnSpPr>
        <p:spPr>
          <a:xfrm>
            <a:off x="2052720" y="3168360"/>
            <a:ext cx="57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4" idx="3"/>
            <a:endCxn id="233" idx="2"/>
          </p:cNvCxnSpPr>
          <p:nvPr/>
        </p:nvCxnSpPr>
        <p:spPr>
          <a:xfrm>
            <a:off x="3203280" y="3168720"/>
            <a:ext cx="57708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859280" y="3716280"/>
            <a:ext cx="576360" cy="376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20" idx="3"/>
            <a:endCxn id="221" idx="1"/>
          </p:cNvCxnSpPr>
          <p:nvPr/>
        </p:nvCxnSpPr>
        <p:spPr>
          <a:xfrm>
            <a:off x="1186920" y="3900240"/>
            <a:ext cx="359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21" idx="3"/>
            <a:endCxn id="222" idx="1"/>
          </p:cNvCxnSpPr>
          <p:nvPr/>
        </p:nvCxnSpPr>
        <p:spPr>
          <a:xfrm>
            <a:off x="2122200" y="3900240"/>
            <a:ext cx="36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22" idx="3"/>
            <a:endCxn id="223" idx="1"/>
          </p:cNvCxnSpPr>
          <p:nvPr/>
        </p:nvCxnSpPr>
        <p:spPr>
          <a:xfrm>
            <a:off x="3706920" y="39002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23" idx="3"/>
            <a:endCxn id="237" idx="1"/>
          </p:cNvCxnSpPr>
          <p:nvPr/>
        </p:nvCxnSpPr>
        <p:spPr>
          <a:xfrm>
            <a:off x="4572000" y="3900240"/>
            <a:ext cx="28800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5580000" y="39085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"/>
          <p:cNvCxnSpPr>
            <a:stCxn id="233" idx="0"/>
            <a:endCxn id="237" idx="0"/>
          </p:cNvCxnSpPr>
          <p:nvPr/>
        </p:nvCxnSpPr>
        <p:spPr>
          <a:xfrm>
            <a:off x="4211640" y="3176280"/>
            <a:ext cx="937440" cy="54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27" idx="0"/>
            <a:endCxn id="237" idx="0"/>
          </p:cNvCxnSpPr>
          <p:nvPr/>
        </p:nvCxnSpPr>
        <p:spPr>
          <a:xfrm>
            <a:off x="4211640" y="2530440"/>
            <a:ext cx="937440" cy="11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1476360" y="4653000"/>
            <a:ext cx="576360" cy="3459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708360" y="4653000"/>
            <a:ext cx="574560" cy="361800"/>
          </a:xfrm>
          <a:custGeom>
            <a:avLst/>
            <a:gdLst>
              <a:gd name="textAreaLeft" fmla="*/ 126360 w 574560"/>
              <a:gd name="textAreaRight" fmla="*/ 448200 w 574560"/>
              <a:gd name="textAreaTop" fmla="*/ 79560 h 361800"/>
              <a:gd name="textAreaBottom" fmla="*/ 282240 h 36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627280" y="4653000"/>
            <a:ext cx="57636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"/>
          <p:cNvCxnSpPr>
            <a:stCxn id="245" idx="3"/>
            <a:endCxn id="247" idx="1"/>
          </p:cNvCxnSpPr>
          <p:nvPr/>
        </p:nvCxnSpPr>
        <p:spPr>
          <a:xfrm>
            <a:off x="2052720" y="4825800"/>
            <a:ext cx="57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stCxn id="247" idx="3"/>
            <a:endCxn id="246" idx="2"/>
          </p:cNvCxnSpPr>
          <p:nvPr/>
        </p:nvCxnSpPr>
        <p:spPr>
          <a:xfrm>
            <a:off x="3203280" y="4826160"/>
            <a:ext cx="57708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0" name=""/>
          <p:cNvSpPr/>
          <p:nvPr/>
        </p:nvSpPr>
        <p:spPr>
          <a:xfrm>
            <a:off x="1476360" y="5299200"/>
            <a:ext cx="576360" cy="345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08360" y="5299200"/>
            <a:ext cx="574560" cy="361800"/>
          </a:xfrm>
          <a:custGeom>
            <a:avLst/>
            <a:gdLst>
              <a:gd name="textAreaLeft" fmla="*/ 126360 w 574560"/>
              <a:gd name="textAreaRight" fmla="*/ 448200 w 574560"/>
              <a:gd name="textAreaTop" fmla="*/ 79560 h 361800"/>
              <a:gd name="textAreaBottom" fmla="*/ 282240 h 36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627280" y="5299200"/>
            <a:ext cx="57636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"/>
          <p:cNvCxnSpPr>
            <a:stCxn id="250" idx="3"/>
            <a:endCxn id="252" idx="1"/>
          </p:cNvCxnSpPr>
          <p:nvPr/>
        </p:nvCxnSpPr>
        <p:spPr>
          <a:xfrm>
            <a:off x="2052720" y="5471640"/>
            <a:ext cx="57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stCxn id="252" idx="3"/>
            <a:endCxn id="251" idx="2"/>
          </p:cNvCxnSpPr>
          <p:nvPr/>
        </p:nvCxnSpPr>
        <p:spPr>
          <a:xfrm>
            <a:off x="3203280" y="5472000"/>
            <a:ext cx="57708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46" idx="0"/>
            <a:endCxn id="237" idx="2"/>
          </p:cNvCxnSpPr>
          <p:nvPr/>
        </p:nvCxnSpPr>
        <p:spPr>
          <a:xfrm flipV="1">
            <a:off x="4211640" y="4092120"/>
            <a:ext cx="937440" cy="74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51" idx="0"/>
            <a:endCxn id="237" idx="2"/>
          </p:cNvCxnSpPr>
          <p:nvPr/>
        </p:nvCxnSpPr>
        <p:spPr>
          <a:xfrm flipV="1">
            <a:off x="4211640" y="4092120"/>
            <a:ext cx="937440" cy="138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8893080" y="2997360"/>
            <a:ext cx="0" cy="158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763800" y="301140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55880" y="466092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63800" y="532440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28000" y="4676760"/>
            <a:ext cx="115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ata de Conclus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659640" y="2349360"/>
            <a:ext cx="172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tividades executadas pelo mesmo recur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"/>
          <p:cNvCxnSpPr>
            <a:stCxn id="262" idx="1"/>
            <a:endCxn id="229" idx="3"/>
          </p:cNvCxnSpPr>
          <p:nvPr/>
        </p:nvCxnSpPr>
        <p:spPr>
          <a:xfrm flipH="1" flipV="1">
            <a:off x="3203280" y="2522160"/>
            <a:ext cx="3456720" cy="24048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62" idx="1"/>
            <a:endCxn id="234" idx="3"/>
          </p:cNvCxnSpPr>
          <p:nvPr/>
        </p:nvCxnSpPr>
        <p:spPr>
          <a:xfrm flipH="1">
            <a:off x="3203280" y="2761920"/>
            <a:ext cx="3456720" cy="40716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2" idx="1"/>
            <a:endCxn id="221" idx="3"/>
          </p:cNvCxnSpPr>
          <p:nvPr/>
        </p:nvCxnSpPr>
        <p:spPr>
          <a:xfrm flipH="1">
            <a:off x="2121840" y="2762280"/>
            <a:ext cx="4537800" cy="113904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2" idx="1"/>
            <a:endCxn id="247" idx="0"/>
          </p:cNvCxnSpPr>
          <p:nvPr/>
        </p:nvCxnSpPr>
        <p:spPr>
          <a:xfrm flipH="1">
            <a:off x="2916000" y="2762280"/>
            <a:ext cx="3744000" cy="189144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2" idx="1"/>
            <a:endCxn id="252" idx="0"/>
          </p:cNvCxnSpPr>
          <p:nvPr/>
        </p:nvCxnSpPr>
        <p:spPr>
          <a:xfrm flipH="1">
            <a:off x="2916000" y="2761920"/>
            <a:ext cx="3744000" cy="253764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395280" y="429264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-36360" y="4259160"/>
            <a:ext cx="187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aminho Crí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03640" y="4581360"/>
            <a:ext cx="2881440" cy="1310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Há muitas atividades para o recurso X, causando atraso nos caminhos não-críticos e a mudança do caminho crítico constantement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AFC5-8A8D-499B-9DFC-DA4B702F837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7B39A0-22BC-4501-B410-BA7946FFE69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Agend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Gestão de Portfólio x Gestão de Multiproje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Tipologia de Ambientes Multiproje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Fábricas de 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Corrente Crít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Considerações Fina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Referênc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E425-BB2B-48F7-8AB1-CE77890F17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5EBA67-0877-42A0-BF38-249250E828E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Corrente Crítica </a:t>
            </a:r>
            <a:r>
              <a:rPr b="0" lang="pt-BR" sz="3100" spc="-1" strike="noStrike">
                <a:solidFill>
                  <a:srgbClr val="006633"/>
                </a:solidFill>
                <a:latin typeface="Garamond"/>
              </a:rPr>
              <a:t>(cont.)</a:t>
            </a: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u seja, pode também existir dependência entre duas tarefas por conta dos recursos necessários para executá-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recurso não consegue fazer as duas atividades paralelam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Logo, a definição tradicional de caminho crítico não se aplica, pois despreza estas dependê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ependências entre etapas podem ser um resultado de um caminho ou de um recurso em com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8286-5E4D-47FB-8C67-ECC4E118AA5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0C976E-8BDB-4419-BD22-8F9A2FD0FA3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468360" y="2133720"/>
            <a:ext cx="8424720" cy="2879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Corrente Crítica </a:t>
            </a:r>
            <a:r>
              <a:rPr b="0" lang="pt-BR" sz="3100" spc="-1" strike="noStrike">
                <a:solidFill>
                  <a:srgbClr val="006633"/>
                </a:solidFill>
                <a:latin typeface="Garamond"/>
              </a:rPr>
              <a:t>(cont.)</a:t>
            </a: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4000" y="2060640"/>
            <a:ext cx="8424720" cy="2846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Corrente Crític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Maior cadeia de atividades dependentes entre si por pertencerem ao mesmo caminho ou dependentes por serem feitas pelo mesmo recu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B1DA-23E3-4F17-850A-BBFE53B809E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C41F58-5960-4A1D-8B6F-A82D9442721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Corrente Crítica em Ambientes Multiprojet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 proposta em ambientes multiprojetos é para trabalhar com os recursos comuns e de maior demanda de maneira </a:t>
            </a:r>
            <a:r>
              <a:rPr b="0" lang="pt-BR" sz="2600" spc="-1" strike="noStrike">
                <a:solidFill>
                  <a:srgbClr val="ff3300"/>
                </a:solidFill>
                <a:latin typeface="Arial"/>
              </a:rPr>
              <a:t>sincroniza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s recursos sincronizados são então escalonados entre os diversos proje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primeiro passo para isso é montar a corrente crítica de todos os projetos de forma simultân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F1CC-9F34-4CEC-8E52-B70D8FDCAE8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01A720-7F93-43DB-9175-4F9292BC471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Corrente Crítica em Ambientes Multiprojetos </a:t>
            </a:r>
            <a:r>
              <a:rPr b="0" lang="pt-BR" sz="3400" spc="-1" strike="noStrike">
                <a:solidFill>
                  <a:srgbClr val="006633"/>
                </a:solidFill>
                <a:latin typeface="Garamond"/>
              </a:rPr>
              <a:t>(cont.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792000" y="1709640"/>
            <a:ext cx="7380360" cy="445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112D-096F-40C3-B5C4-D6945B40443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32B333-955A-40B0-93DE-068D4C789B4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Corrente Crítica em Ambientes Multiprojetos </a:t>
            </a:r>
            <a:r>
              <a:rPr b="0" lang="pt-BR" sz="3400" spc="-1" strike="noStrike">
                <a:solidFill>
                  <a:srgbClr val="006633"/>
                </a:solidFill>
                <a:latin typeface="Garamond"/>
              </a:rPr>
              <a:t>(cont.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7035840" cy="34081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826920" y="57340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estrição identificada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96B5-B6F4-48C9-855B-25C6A7F200D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941EA9-C8AB-4B40-9807-95337E48933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Corrente Crítica em Ambientes Multiprojetos </a:t>
            </a:r>
            <a:r>
              <a:rPr b="0" lang="pt-BR" sz="3400" spc="-1" strike="noStrike">
                <a:solidFill>
                  <a:srgbClr val="006633"/>
                </a:solidFill>
                <a:latin typeface="Garamond"/>
              </a:rPr>
              <a:t>(cont.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763640" y="2557440"/>
            <a:ext cx="5614920" cy="231156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611280" y="1700280"/>
            <a:ext cx="82296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liminamos a contenção de recursos entre projetos de acordo com a priorização estabeleci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ste escalonamento pode não ser suficiente para proteger um projeto das variâncias de um outro proje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43812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5702-39BB-49CA-A72B-3ED417B09AB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A5A1B7-133C-4917-8FA3-1EAA234F926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Corrente Crítica em Ambientes Multiprojetos </a:t>
            </a:r>
            <a:r>
              <a:rPr b="0" lang="pt-BR" sz="3400" spc="-1" strike="noStrike">
                <a:solidFill>
                  <a:srgbClr val="006633"/>
                </a:solidFill>
                <a:latin typeface="Garamond"/>
              </a:rPr>
              <a:t>(cont.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1280" y="1844640"/>
            <a:ext cx="80643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riamos então um </a:t>
            </a:r>
            <a:r>
              <a:rPr b="0" lang="pt-BR" sz="2600" spc="-1" strike="noStrike">
                <a:solidFill>
                  <a:srgbClr val="ff3300"/>
                </a:solidFill>
                <a:latin typeface="Arial"/>
              </a:rPr>
              <a:t>buffer de recur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oporcional ao tamanho da soma das atividades do recurso restrit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43812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116000" y="3284640"/>
            <a:ext cx="7148520" cy="274788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5292720" y="321300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Buffer de recur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4284360" y="3357720"/>
            <a:ext cx="1439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5219640" y="3500280"/>
            <a:ext cx="93672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659640" y="3500280"/>
            <a:ext cx="79200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0A95-CA22-4C49-94A7-7ED0B80BCE5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B70701-1343-42CB-8BFF-E57F94427FE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Corrente Crítica em Ambientes Multiprojetos </a:t>
            </a:r>
            <a:r>
              <a:rPr b="0" lang="pt-BR" sz="3400" spc="-1" strike="noStrike">
                <a:solidFill>
                  <a:srgbClr val="006633"/>
                </a:solidFill>
                <a:latin typeface="Garamond"/>
              </a:rPr>
              <a:t>(cont.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11280" y="1844640"/>
            <a:ext cx="80643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rojetos escalonados pela sincronização do buffer de recurs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43812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611280" y="2637000"/>
            <a:ext cx="7993080" cy="34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81B9-5F33-495B-99C4-1ABCD9BA941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EA416C-7561-4163-BB43-1517E96DA9F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Agend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Introduçã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Gestão de Portfólio x Gestão de Multiproje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Tipologia de Ambientes Multiproje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Fábricas de 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Corrente Crít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Considerações Fina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Referênc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65C9-C139-43B1-A0C7-33F4FFCB398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D92710-93DD-48A9-A312-1C987753D17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6633"/>
                </a:solidFill>
                <a:latin typeface="Garamond"/>
              </a:rPr>
              <a:t>Considerações Finais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gerenciamento de múltiplos projetos ainda é um desafio frente aos métodos e técnicas de gerenciamento de projetos tradicion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literatura é escassa e os conceitos são confu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ão há um ferramental que auxilie o GP plenamente para gerenciar múltiplos proje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I é tipicamente um ambiente multiproje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sso implica que precisamos pesquisar e amadurecer a forma como gerenciamos múltiplos projetos de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F8FD-DB6A-4DFD-B39A-4A4A64E741E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B4EDF3-DC06-4112-9FD3-D254C7EC97D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Introduçã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organizações que trabalham com projetos buscam cada vez mais otimizarem a sua cadeia de produção sem aumentar seus custos de p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tratar uma equipe por projeto nem sempre é uma boa solu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alocação dos recursos existentes em detrimento da aquisição ou contratação de novos recursos para cada projeto é essen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ntretanto, a alocação destes recursos entre os diversos projetos existentes e com execução simultânea em uma organização é algo não triv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974B-F085-4F63-B886-C674A2FACC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7B38A6-C1E5-439A-B158-9091AC048E5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Dúvida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2633760" cy="432108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4608360" y="2637000"/>
            <a:ext cx="392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Bruno Frei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bccf@cin.ufpe.b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0B85-E90D-4487-A219-77C2A64951DC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06113C-F933-47ED-B3E9-73870AE27E1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Agend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Introduçã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Gestão de Portfólio x Gestão de Multiproje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Tipologia de Ambientes Multiproje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Fábricas de 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Corrente Crít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eaeaea"/>
                </a:solidFill>
                <a:latin typeface="Arial"/>
              </a:rPr>
              <a:t>Considerações Fina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Referênc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6D37-FDDC-419E-8FBB-7DBAD55A1F0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A1ED8F-5E57-488F-BEEC-59C39FC17FB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6633"/>
                </a:solidFill>
                <a:latin typeface="Garamond"/>
              </a:rPr>
              <a:t>Referências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ernandes, A. &amp; Teixeira, D. (2004) “Fábrica de Software – Implantação e Gestão de Operações”. Ed. Atlas. ISBN: 852243690-8. 304 páginas. São Paulo – SP. Bras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arcaui, A &amp; Quelhas, O. (2004) “Corrente Crítica: Uma alternativa à gerência de projetos tradicional”. In: Revista Pesquisa e Desenvolvimento Engenharia de Produção, n. 2, p. 1-21, jul 2004, Bras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anilovic, M. and Börjesson, H. (2001) “Managing the MultiProject Environment”, In: The Third Dependence Structure Matrix (DSM) International Workshop, Proceedings, Massachusetts Institute of Technology (MIT), Massachusetts, Boston, Cambridge, U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8CAC-44E4-4E72-82D3-5EA8134D7B0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3F004E-8345-45F5-B775-ED42763108B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6633"/>
                </a:solidFill>
                <a:latin typeface="Garamond"/>
              </a:rPr>
              <a:t>Referências </a:t>
            </a:r>
            <a:r>
              <a:rPr b="0" lang="pt-BR" sz="3000" spc="-1" strike="noStrike">
                <a:solidFill>
                  <a:srgbClr val="006633"/>
                </a:solidFill>
                <a:latin typeface="Garamond"/>
              </a:rPr>
              <a:t>(cont.)</a:t>
            </a:r>
            <a:r>
              <a:rPr b="0" lang="pt-BR" sz="38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anilovic, M. e Sandkull, B. (2005) “The use of dependence structure matrix and domain mapping matrix in managing uncertainty in multiple project situations”, in: International Journal of Project Management, No. 23, págs. 193 – 20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ye, L. and Pennypacker, J. (2000) “Project Portfolio Management and Managing Multiple Projects: Two Sides of the Same Coin?”, In: Proceedings of the Project Management Institute Annual Seminars &amp; Symposium, Houston,Texas,U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lonen, S e Artto, K. (2003) “Problems in managing internal development projects in multi-project environments”, in: International Journal of Project Management, No. 21, págs. 395 – 40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F37D-C864-4DB9-96C3-60679DED495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E5F87F-F5E0-4904-A14E-B00EEA6EA10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6633"/>
                </a:solidFill>
                <a:latin typeface="Garamond"/>
              </a:rPr>
              <a:t>Referências </a:t>
            </a:r>
            <a:r>
              <a:rPr b="0" lang="pt-BR" sz="3000" spc="-1" strike="noStrike">
                <a:solidFill>
                  <a:srgbClr val="006633"/>
                </a:solidFill>
                <a:latin typeface="Garamond"/>
              </a:rPr>
              <a:t>(cont.)</a:t>
            </a:r>
            <a:r>
              <a:rPr b="0" lang="pt-BR" sz="38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autiainen, K. et al (2000) “Improving Multi-Project Management in Two Product Development Organizations”, In: Proceedings of the Hawaii International Conference on System Sciences, Maui, Hawaii, EU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Goldratt, E. (1998) “Corrente Crítica”. 1ª edição. Ed. Nobel.     São Paulo – Bras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694D-2A22-4B9A-979E-50F8778035C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9DA498-9FB2-4602-A79C-65C68599824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006633"/>
                </a:solidFill>
                <a:latin typeface="Garamond"/>
              </a:rPr>
              <a:t>Gerenciamento de Múltiplos Projetos de Softwar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runo Freitas, P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bccf@cin.ufpe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entro de Informá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niversidade Federal de Pernambu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Introdução </a:t>
            </a:r>
            <a:r>
              <a:rPr b="0" lang="pt-BR" sz="3400" spc="-1" strike="noStrike">
                <a:solidFill>
                  <a:srgbClr val="006633"/>
                </a:solidFill>
                <a:latin typeface="Garamond"/>
              </a:rPr>
              <a:t>(cont.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grande maioria das organizações, principalmente as fábricas de software, não tem condições de manter uma equipe dedicada a cada um dos seus projetos, os seus funcionários vão sendo deslocados entre os projetos de acordo com a necessidade de cada um d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e ambiente dinâmico no qual a alocação de recursos é peça-chave é conhecido como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ambiente multiproje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[Danilovic 2001][Rautiainen 200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uco mais do que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90% de todos os proje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são conduzidos neste tipo de ambiente [Danilovic 200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B7C0-8019-476C-9456-FC505C13F70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43A363-1F53-477C-B3DA-8AF1046169E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Introdução </a:t>
            </a:r>
            <a:r>
              <a:rPr b="0" lang="pt-BR" sz="3400" spc="-1" strike="noStrike">
                <a:solidFill>
                  <a:srgbClr val="006633"/>
                </a:solidFill>
                <a:latin typeface="Garamond"/>
              </a:rPr>
              <a:t>(cont.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 ambiente multiprojetos, segundo [Barcaui 2004]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ência e a capacidade dos recursos podem ser interpretadas como principal fator restr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s critérios acabam por levar estes recursos a serem mais utilizados do que outros, degradando a performance do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AE52-193A-49D4-990B-717C0452C08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17E9F6-D4ED-497D-85ED-7A4D3F38EE4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Introdução </a:t>
            </a:r>
            <a:r>
              <a:rPr b="0" lang="pt-BR" sz="3400" spc="-1" strike="noStrike">
                <a:solidFill>
                  <a:srgbClr val="006633"/>
                </a:solidFill>
                <a:latin typeface="Garamond"/>
              </a:rPr>
              <a:t>(cont.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incipais problemas do ambiente multiprojetos [Elonen 2003]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7053120" cy="3824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11280" y="4581360"/>
            <a:ext cx="115236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5013360"/>
            <a:ext cx="93492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1E79-6BC6-45FD-B0FC-A3ECC65AD1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8ADAD5-8A4F-43B7-ADA5-CCC178C9EE4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Introdução </a:t>
            </a:r>
            <a:r>
              <a:rPr b="0" lang="pt-BR" sz="3400" spc="-1" strike="noStrike">
                <a:solidFill>
                  <a:srgbClr val="006633"/>
                </a:solidFill>
                <a:latin typeface="Garamond"/>
              </a:rPr>
              <a:t>(cont.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É comum que os projetos sejam lançados com falta de recursos e de uma programação bem defini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sto acarreta a re-priorização entre os projetos, sub-projetos e tarefas, ou seja, no momento em que o prazo de algum dos projetos esteja vencendo, ele passa a ser o foco das aten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alocação de recursos então deve ser feita no momento em que os projetos precisam e não através de um planejamento prév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resultado pode ser a ausência do recurso no momento em que o mesmo é necessário, recorrendo a soluções paliativas drásticas que comprometem o orçamento, a qualidade e o cronograma do proj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6F3E-261E-4AC7-A1E0-43AC32C3E6B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C2B8B8-D307-4179-AECF-79C249DF4F7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Introdução </a:t>
            </a:r>
            <a:r>
              <a:rPr b="0" lang="pt-BR" sz="3400" spc="-1" strike="noStrike">
                <a:solidFill>
                  <a:srgbClr val="006633"/>
                </a:solidFill>
                <a:latin typeface="Garamond"/>
              </a:rPr>
              <a:t>(cont.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iderando então a natureza mutável dos recursos entre os projetos, [Danilovic 2005] destaca que o problema da comunicação toma proporções ainda mai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sso gera conflitos, sentimento de insegurança, estresse e desconforto entre a equipe de desenvolvimento, pois a mobilidade das pessoas entre os projetos por muitas vezes não permite que elas tenham um conhecimento mais aprofundado do que estão desenvolve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renciamento de Múltiplos Projetos de Softwa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F1B7-8178-4DBD-B4A0-EBE2A7A6981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C0DAE3-9440-4D93-83FD-9D540E50B16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7T13:38:16Z</dcterms:created>
  <dc:creator>Bruno Freitas</dc:creator>
  <dc:description/>
  <dc:language>en-US</dc:language>
  <cp:lastModifiedBy>Bruno Freitas</cp:lastModifiedBy>
  <dcterms:modified xsi:type="dcterms:W3CDTF">2006-01-22T23:23:34Z</dcterms:modified>
  <cp:revision>31</cp:revision>
  <dc:subject/>
  <dc:title>Gerenciamento de Múltiplos Projetos de Software</dc:title>
</cp:coreProperties>
</file>